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3.wmf" ContentType="image/x-wmf"/>
  <Override PartName="/ppt/media/image25.gif" ContentType="image/gif"/>
  <Override PartName="/ppt/media/image10.gif" ContentType="image/gif"/>
  <Override PartName="/ppt/media/image8.wmf" ContentType="image/x-wmf"/>
  <Override PartName="/ppt/media/image12.gif" ContentType="image/gif"/>
  <Override PartName="/ppt/media/image3.jpeg" ContentType="image/jpeg"/>
  <Override PartName="/ppt/media/image15.png" ContentType="image/png"/>
  <Override PartName="/ppt/media/image7.gif" ContentType="image/gif"/>
  <Override PartName="/ppt/media/image18.wmf" ContentType="image/x-wmf"/>
  <Override PartName="/ppt/media/image9.wmf" ContentType="image/x-wmf"/>
  <Override PartName="/ppt/media/image14.png" ContentType="image/png"/>
  <Override PartName="/ppt/media/image6.gif" ContentType="image/gif"/>
  <Override PartName="/ppt/media/image17.wmf" ContentType="image/x-wmf"/>
  <Override PartName="/ppt/media/image5.wmf" ContentType="image/x-wmf"/>
  <Override PartName="/ppt/media/image4.jpeg" ContentType="image/jpeg"/>
  <Override PartName="/ppt/media/image29.png" ContentType="image/png"/>
  <Override PartName="/ppt/media/image16.wmf" ContentType="image/x-wmf"/>
  <Override PartName="/ppt/media/image28.jpeg" ContentType="image/jpeg"/>
  <Override PartName="/ppt/media/image26.wmf" ContentType="image/x-wmf"/>
  <Override PartName="/ppt/media/image27.gif" ContentType="image/gif"/>
  <Override PartName="/ppt/media/image23.wmf" ContentType="image/x-wmf"/>
  <Override PartName="/ppt/media/image22.png" ContentType="image/png"/>
  <Override PartName="/ppt/media/image21.wmf" ContentType="image/x-wmf"/>
  <Override PartName="/ppt/media/image19.gif" ContentType="image/gif"/>
  <Override PartName="/ppt/media/image20.jpeg" ContentType="image/jpeg"/>
  <Override PartName="/ppt/media/image24.wmf" ContentType="image/x-wmf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F179-086C-473A-8ED3-BB98ECF2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60CD-02E1-46CF-AB9B-E04BD33A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9382-891C-4559-9F57-906655EDA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79F2-73B6-42AB-A401-3E816426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8593-2CC1-4864-98DB-EAF21AE8C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8025-AF38-4329-8037-118C1D81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4A65-B48B-4BD6-BF97-47775008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693B-7D55-4A78-A8C1-20934F97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9460-A705-488E-BEBE-66651C8B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4A20-3CE6-4EDD-BA18-0EB13F70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72AE-4B42-47E5-8990-B1DE1C12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DC2E-71EA-454B-9507-762698D1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4997-DBC5-4E5B-95CC-276CC7C0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DA5C-5700-463A-996D-FB3B94E6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838B-F1F0-4F65-B831-477B367C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1FC6-83CD-4A35-9D41-9485CD65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C0CD-2457-49CA-A4EB-C4756BD29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8AD8-BD4E-427A-98DB-F2EA8DCF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17DB-3C01-4D95-A9FF-78B203B2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4CA5-2348-40BB-85ED-F6164308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681A-4CA1-4009-BE50-76BCDD4E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B6A2-32C8-49A9-AD5E-E9AF3E68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64FB-96C3-447E-B3F5-C3F773BE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055F-4F22-41D7-813E-0B3912FD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A7D9-9AE9-4FFB-9FD7-0AFDDB323FE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E674-2919-4BCB-8132-61DDE4C642C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807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09480" y="609480"/>
            <a:ext cx="4038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Energy: Forms and Chan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hemic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46892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Chemical Energy is required to bond atoms together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And when bonds are broken, energy is released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hemic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5798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Fuel and food are forms of stored chemical energy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80988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lectromagnetic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783120" cy="22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Power lines carry electromagnetic energy into your home in the form of electricit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90920" y="4191120"/>
            <a:ext cx="495288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lectromagnetic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480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Light is a form of electromagnetic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ach color of light (Roy G Bv) represents a different amount of electromagnetic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lectromagnetic Energy is also carried by X-rays, radio waves, and laser light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400800" y="1752480"/>
            <a:ext cx="228600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uclear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The nucleus of an atom is the source of nuclear energy. 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105520" y="2057400"/>
            <a:ext cx="35812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uclear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When the nucleus splits (fission), nuclear energy is released in the form of heat energy and light energ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Nuclear energy is also released when nuclei collide at high speeds and join (fuse)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uclear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3886200" cy="3962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562720" y="1981080"/>
            <a:ext cx="2971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sun’s energy is produced from a nuclear fusion reaction in which hydrogen nuclei fuse to form helium nucle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uclear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Nuclear energy is the most concentrated form of energy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189240" cy="3152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905120" y="5638680"/>
            <a:ext cx="556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Verdana"/>
              </a:rPr>
              <a:t>Most of us live within 10 miles of the Surry Nuclear Power Plant which converts nuclear energy into electromagnetic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Mechanic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93576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When work is done to an object, it acquires energy. The energy it acquires is known as mechanical energy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Mechanic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When you kick a football, you give mechancal energy to the football to make it move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3581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8594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Energy is all around you!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You can hear energy as sound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You can see energy as light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And you can feel it as wind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029200" y="4572000"/>
            <a:ext cx="2979720" cy="1981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38080" y="4572000"/>
            <a:ext cx="29480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" dur="500" autoRev="1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0" dur="500" autoRev="1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1" dur="500" autoRev="1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500" autoRev="1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4" dur="500" autoRev="1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500" autoRev="1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8" dur="500" autoRev="1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9" dur="500" autoRev="1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Mechanic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2895840" cy="39625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24280" y="1905120"/>
            <a:ext cx="342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24280" y="1981080"/>
            <a:ext cx="3429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hen you throw a balling ball, you give it energy. When that bowling ball hits the pins, some of the energy is transferred to the pins (transfer of momentum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nergy Conversion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nergy can be changed from one form to another. Changes in the form of energy are called energy conversions.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nergy conversions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All forms of energy can be converted into other form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e sun’s energy through solar cells can be converted directly into electricit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Green plants convert the sun’s energy (electromagnetic) into starches and sugars (chemical energy)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Other energy conversions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n an electric motor, electromagnetic energy is converted to mechanical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n a battery, chemical energy is converted into electromagnetic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e mechanical energy of a waterfall is converted to electrical energy in a generator.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nergy Conversions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n an automobile engine, fuel is burned to convert chemical energy into heat energy. The heat energy is then changed into mechanical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486400" y="1981080"/>
            <a:ext cx="3276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8960" y="3581280"/>
            <a:ext cx="7313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hemical </a:t>
            </a:r>
            <a:r>
              <a:rPr b="0" lang="en-US" sz="3600" spc="-1" strike="noStrike">
                <a:solidFill>
                  <a:srgbClr val="0066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Heat </a:t>
            </a:r>
            <a:r>
              <a:rPr b="0" lang="en-US" sz="3600" spc="-1" strike="noStrike">
                <a:solidFill>
                  <a:srgbClr val="0066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Mechanical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556272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States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most common energy conversion is the conversion between potential and kinetic energ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All forms of energy can be in either of two states: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Potentia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Kinetic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States of Energy: </a:t>
            </a:r>
            <a:br>
              <a:rPr sz="3200"/>
            </a:b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Kinetic and Potential Energy</a:t>
            </a: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Kinetic Energy is the energy of motion.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Potential Energy is stored energy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Kinetic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energy of motion is called kinetic energ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faster an object moves, the more kinetic energy it ha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greater the mass of a moving object, the more kinetic energy it ha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Kinetic energy depends on both mass and velocit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Kinetic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                                           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K.E. =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Verdana"/>
              </a:rPr>
              <a:t>mass x velocity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What has a greater affect of kinetic energy, mass or velocity? Why?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62920" y="2286000"/>
            <a:ext cx="1332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You use energy when you: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hit a softball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lift your book bag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ompress a spring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029200" y="2286000"/>
            <a:ext cx="358128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otential Energy is stored energ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tored chemically in fuel, the nucleus of atom, and in food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Or stored because of the work done on it: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tretching a rubber band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Winding a watch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ulling back on a bow’s arrow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Lifting a brick high in the ai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Gravitational 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Potential energy that is dependent on height is called gravitational potential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119560" y="1981080"/>
            <a:ext cx="3476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478560" cy="17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nergy that is stored due to being stretched or compressed is called elastic potential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1587600" cy="19810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952880" y="3429000"/>
            <a:ext cx="1792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9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Gravitational 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0160" y="1827000"/>
            <a:ext cx="68594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A waterfall, a suspension bridge, and a falling snowflake all have gravitational potential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676520" y="3429000"/>
            <a:ext cx="6400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Gravitational 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f you stand on a 3-meter diving board, you have 3 times the G.P.E, than you had on a 1-meter diving board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257800" y="2209680"/>
            <a:ext cx="32004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Gravitational 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bigger they are the harder they fall” is not just a saying. It’s true. Objects with more mass have greater G.P.E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formula to find G.P.E. i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G.P.E. = Weight X Height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Kinetic-Potential Energy Conversion</a:t>
            </a: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47920" y="2057400"/>
            <a:ext cx="6781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oller coasters work because of the energy that is built into the system. Initially, the cars are pulled mechanically up the tallest hill, giving them a great deal of potential energy. From that point, the conversion between potential and kinetic energy powers the cars throughout the entire ri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0" y="4191120"/>
            <a:ext cx="510552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Kinetic vs. 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370160" y="1827360"/>
            <a:ext cx="6975360" cy="31384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371600" y="55627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t the point of maximum potential energy, the car has minimum kinetic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Kinetic-Potential Energy Conversions</a:t>
            </a: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As a basketball player throws the ball into the air, various energy conversions take place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684760" y="2055960"/>
            <a:ext cx="2414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46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" y="23623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ll slows d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34320" y="22860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ll speeds 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Living organisms need energy for growth and movement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3657600" cy="2531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34120" y="1676520"/>
            <a:ext cx="30477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he Law of Conservation of Energy</a:t>
            </a: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nergy can be neither created nor destroyed by ordinary mean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t can only be converted from one form to another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f energy seems to disappear, then scientists look for it – leading to many important discoveri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Law of Conservation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In 1905, Albert Einstein said that mass and energy can be converted into each other.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He showed that if matter is destroyed, energy is created, and if energy is destroyed mass is created.            </a:t>
            </a: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 = MC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Vocabulary Words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69800" y="1523520"/>
            <a:ext cx="7313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nerg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mechanical energ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heat energ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hemical energ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lectromagnetic energ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nuclear energ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kinetic energ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potential energ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gravitational potential energ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nergy conversion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Law of Conservation of Energ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nergy is involved when: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a bird fli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a bomb explod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rain falls from the sky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electricity flows in a wire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105520" y="2108160"/>
            <a:ext cx="3733560" cy="3530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04920" y="4648320"/>
            <a:ext cx="1541520" cy="1803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324480" y="152280"/>
            <a:ext cx="177660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What is energy that it can be involved in so many different activities?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nergy can be defined as the ability to do work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If an object or organism does work (exerts a force over a distance to move an object) the object or organism uses energ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Because of the direct connection between energy and work, energy is measured in the same unit as work: joules (J)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In addition to using energy to do work, objects gain energy because work is being done on them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Forms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403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e five main forms of energy are: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He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hemica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lectromagnetic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Nuclear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Mechanica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943600" y="2666880"/>
            <a:ext cx="189864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Heat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internal motion of the atoms is called heat energy, because moving particles produce heat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Heat energy can be produced by frictio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Heat energy causes changes in temperature and phase of any form of matter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3T23:14:26Z</dcterms:created>
  <dc:creator>Vicki Lewis</dc:creator>
  <dc:description/>
  <dc:language>en-US</dc:language>
  <cp:lastModifiedBy>lewisv</cp:lastModifiedBy>
  <dcterms:modified xsi:type="dcterms:W3CDTF">2006-11-06T13:22:21Z</dcterms:modified>
  <cp:revision>18</cp:revision>
  <dc:subject/>
  <dc:title>Energy:</dc:title>
</cp:coreProperties>
</file>